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514-CA66-4A27-B2BF-A9476A4E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0CF-3A52-4710-8572-8371821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AF5-A902-495B-9818-A724F818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2BC-1A74-4E52-A84C-EC964293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C4E-6242-465A-8865-DF804B7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F68-1A59-48E3-BC2A-7E910A4E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EAB-08D0-4569-91D0-D66A9EE9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049-6A74-486F-A79E-150421AD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C83-88E8-4C66-B973-B34B04EF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2DA-602A-46FF-900C-BE1E865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15B-60F5-426E-B549-9361C9D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C27-4BAF-4AE2-B047-0F99CEC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8A3-B547-4FA9-92C4-1BA524EB1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ther a family or as emplo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gath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epe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.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30T17:32:05Z</dcterms:modified>
  <cp:revision>1</cp:revision>
  <dc:subject/>
  <dc:title>PowerPoint Presentation</dc:title>
</cp:coreProperties>
</file>